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5E3-F644-4705-8850-41CEC7FE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154-B3DB-49AD-B8D2-7665B5A2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AEE-BB30-431D-ADB3-B02F1767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1CE-CEFB-41D4-8D05-D7CFB4E5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92F-2693-46C4-837D-0557F412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2E4-CBE2-41E5-A703-097311B7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B6F-86C6-449E-8A4F-52D5C143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BBF-FAB4-4F8F-89FC-E72C70C0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EBC-4B2C-4520-B62F-16892784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EFC-7D7F-4AC5-B5E0-4CAEAD8E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190-BE60-4DE5-BAD6-19FE4B5A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40E-6CB0-476F-BD92-20389067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E16D-95B1-48EB-8517-E3F8D11B8D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20500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03640" y="3573360"/>
            <a:ext cx="2663640" cy="2521080"/>
            <a:chOff x="3203640" y="3573360"/>
            <a:chExt cx="2663640" cy="2521080"/>
          </a:xfrm>
        </p:grpSpPr>
        <p:sp>
          <p:nvSpPr>
            <p:cNvPr id="48" name=""/>
            <p:cNvSpPr/>
            <p:nvPr/>
          </p:nvSpPr>
          <p:spPr>
            <a:xfrm>
              <a:off x="3203640" y="3573360"/>
              <a:ext cx="2663640" cy="2521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35280" y="5373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11640" y="4222800"/>
              <a:ext cx="64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0720" y="5373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51280" y="4941720"/>
              <a:ext cx="136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00360" y="4941720"/>
              <a:ext cx="0" cy="1152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349360"/>
            <a:ext cx="0" cy="345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20500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end of this lesson you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30686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o use a timetable eff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65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343080" y="88920"/>
            <a:ext cx="8286480" cy="3465360"/>
            <a:chOff x="343080" y="88920"/>
            <a:chExt cx="8286480" cy="3465360"/>
          </a:xfrm>
        </p:grpSpPr>
        <p:grpSp>
          <p:nvGrpSpPr>
            <p:cNvPr id="73" name=""/>
            <p:cNvGrpSpPr/>
            <p:nvPr/>
          </p:nvGrpSpPr>
          <p:grpSpPr>
            <a:xfrm>
              <a:off x="380880" y="304920"/>
              <a:ext cx="8229600" cy="3249360"/>
              <a:chOff x="380880" y="304920"/>
              <a:chExt cx="8229600" cy="3249360"/>
            </a:xfrm>
          </p:grpSpPr>
          <p:sp>
            <p:nvSpPr>
              <p:cNvPr id="74" name=""/>
              <p:cNvSpPr/>
              <p:nvPr/>
            </p:nvSpPr>
            <p:spPr>
              <a:xfrm>
                <a:off x="1905120" y="304920"/>
                <a:ext cx="4952880" cy="52056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Using Timetabl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72400" y="318924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3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72400" y="282420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3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772400" y="2457360"/>
                <a:ext cx="83808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772400" y="2089080"/>
                <a:ext cx="83808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72400" y="172260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772400" y="1357200"/>
                <a:ext cx="83808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772400" y="99072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934320" y="318924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934320" y="282420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34320" y="2457360"/>
                <a:ext cx="83808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34320" y="2089080"/>
                <a:ext cx="83808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34320" y="172260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4320" y="1357200"/>
                <a:ext cx="83808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934320" y="99072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72200" y="3189240"/>
                <a:ext cx="76212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72200" y="2824200"/>
                <a:ext cx="76212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172200" y="2457360"/>
                <a:ext cx="76212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72200" y="2089080"/>
                <a:ext cx="76212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172200" y="1722600"/>
                <a:ext cx="76212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2200" y="1357200"/>
                <a:ext cx="76212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172200" y="990720"/>
                <a:ext cx="76212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34120" y="318924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34120" y="282420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334120" y="2457360"/>
                <a:ext cx="838080" cy="36684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Unti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334120" y="2089080"/>
                <a:ext cx="838080" cy="36828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Ho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172260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Ev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34120" y="1357200"/>
                <a:ext cx="838080" cy="36540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A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99072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2000" y="3189240"/>
                <a:ext cx="76212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72000" y="2824200"/>
                <a:ext cx="76212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72000" y="2457360"/>
                <a:ext cx="76212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72000" y="2089080"/>
                <a:ext cx="76212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72000" y="1722600"/>
                <a:ext cx="76212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72000" y="1357200"/>
                <a:ext cx="76212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72000" y="990720"/>
                <a:ext cx="76212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733920" y="318924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33920" y="282420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33920" y="2457360"/>
                <a:ext cx="83808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733920" y="2089080"/>
                <a:ext cx="83808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733920" y="172260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733920" y="1357200"/>
                <a:ext cx="83808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33920" y="99072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95480" y="3189240"/>
                <a:ext cx="83844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824200"/>
                <a:ext cx="83844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95480" y="2457360"/>
                <a:ext cx="83844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895480" y="2089080"/>
                <a:ext cx="83844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895480" y="1722600"/>
                <a:ext cx="83844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95480" y="1357200"/>
                <a:ext cx="83844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95480" y="990720"/>
                <a:ext cx="83844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880" y="3189240"/>
                <a:ext cx="2514600" cy="36504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Scawby Bus S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0880" y="2824200"/>
                <a:ext cx="2514600" cy="36504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Milf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0880" y="2457360"/>
                <a:ext cx="2514600" cy="36684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Atcliff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0880" y="2089080"/>
                <a:ext cx="2514600" cy="36828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Worsl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80880" y="1722600"/>
                <a:ext cx="2514600" cy="36648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Catb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0880" y="1357200"/>
                <a:ext cx="2514600" cy="36540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Bigb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880" y="990720"/>
                <a:ext cx="2514600" cy="36648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Comic Sans MS"/>
                  </a:rPr>
                  <a:t>Alton Bus S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880" y="990720"/>
                <a:ext cx="82296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0880" y="135720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0880" y="172260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0880" y="208908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0880" y="245736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0880" y="282420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0880" y="318924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0880" y="3554280"/>
                <a:ext cx="82296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0880" y="990720"/>
                <a:ext cx="0" cy="2563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610480" y="990720"/>
                <a:ext cx="0" cy="2563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9548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3392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33412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7220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3432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7240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7194600" y="101520"/>
              <a:ext cx="143496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343080" y="88920"/>
              <a:ext cx="143496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304920" y="3733920"/>
            <a:ext cx="7391160" cy="3682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What time does the 0825 bus from 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Alton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arrive at 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Scawby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4191120"/>
            <a:ext cx="7391160" cy="3682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What time does the 0943 bus from 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Catby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arrive at 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Scawby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4648320"/>
            <a:ext cx="7467480" cy="3682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What time does the 2048 bus from </a:t>
            </a:r>
            <a:r>
              <a:rPr b="1" lang="en-GB" sz="1700" spc="-1" strike="noStrike">
                <a:solidFill>
                  <a:srgbClr val="333399"/>
                </a:solidFill>
                <a:latin typeface="Comic Sans MS"/>
              </a:rPr>
              <a:t>Worsley</a:t>
            </a: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 arrive at </a:t>
            </a:r>
            <a:r>
              <a:rPr b="1" lang="en-GB" sz="1700" spc="-1" strike="noStrike">
                <a:solidFill>
                  <a:srgbClr val="333399"/>
                </a:solidFill>
                <a:latin typeface="Comic Sans MS"/>
              </a:rPr>
              <a:t>Milfield</a:t>
            </a: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5105520"/>
            <a:ext cx="7467480" cy="3682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How long does it take to get from 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Atcliffe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Milfield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562720"/>
            <a:ext cx="7334280" cy="3682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5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How long does it take to get from 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Alton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Scawby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095880"/>
            <a:ext cx="7467480" cy="3682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What time does the last bus from </a:t>
            </a:r>
            <a:r>
              <a:rPr b="1" lang="en-GB" sz="1700" spc="-1" strike="noStrike">
                <a:solidFill>
                  <a:srgbClr val="333399"/>
                </a:solidFill>
                <a:latin typeface="Comic Sans MS"/>
              </a:rPr>
              <a:t>Bigby</a:t>
            </a: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 arrive at </a:t>
            </a:r>
            <a:r>
              <a:rPr b="1" lang="en-GB" sz="1700" spc="-1" strike="noStrike">
                <a:solidFill>
                  <a:srgbClr val="333399"/>
                </a:solidFill>
                <a:latin typeface="Comic Sans MS"/>
              </a:rPr>
              <a:t>Milfield</a:t>
            </a: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3733920"/>
            <a:ext cx="914400" cy="36828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09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4191120"/>
            <a:ext cx="914400" cy="36828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1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72400" y="4648320"/>
            <a:ext cx="914400" cy="36828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2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5105520"/>
            <a:ext cx="914400" cy="36828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8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9480" y="5562720"/>
            <a:ext cx="1152720" cy="36828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49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72400" y="6095880"/>
            <a:ext cx="914400" cy="36828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23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514600" y="876240"/>
            <a:ext cx="1181160" cy="2865240"/>
            <a:chOff x="2514600" y="876240"/>
            <a:chExt cx="1181160" cy="2865240"/>
          </a:xfrm>
        </p:grpSpPr>
        <p:sp>
          <p:nvSpPr>
            <p:cNvPr id="163" name=""/>
            <p:cNvSpPr/>
            <p:nvPr/>
          </p:nvSpPr>
          <p:spPr>
            <a:xfrm>
              <a:off x="2984400" y="985680"/>
              <a:ext cx="711360" cy="3477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87624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27200" y="30988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63840" y="1676520"/>
            <a:ext cx="2057400" cy="2031840"/>
            <a:chOff x="2463840" y="1676520"/>
            <a:chExt cx="2057400" cy="2031840"/>
          </a:xfrm>
        </p:grpSpPr>
        <p:grpSp>
          <p:nvGrpSpPr>
            <p:cNvPr id="167" name=""/>
            <p:cNvGrpSpPr/>
            <p:nvPr/>
          </p:nvGrpSpPr>
          <p:grpSpPr>
            <a:xfrm>
              <a:off x="2463840" y="1701720"/>
              <a:ext cx="495360" cy="2006640"/>
              <a:chOff x="2463840" y="1701720"/>
              <a:chExt cx="495360" cy="2006640"/>
            </a:xfrm>
          </p:grpSpPr>
          <p:sp>
            <p:nvSpPr>
              <p:cNvPr id="168" name=""/>
              <p:cNvSpPr/>
              <p:nvPr/>
            </p:nvSpPr>
            <p:spPr>
              <a:xfrm>
                <a:off x="2463840" y="1701720"/>
                <a:ext cx="39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66"/>
                    </a:solidFill>
                    <a:latin typeface="Times New Roman"/>
                  </a:rPr>
                  <a:t>*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65360" y="3187800"/>
                <a:ext cx="39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66"/>
                    </a:solidFill>
                    <a:latin typeface="Times New Roman"/>
                  </a:rPr>
                  <a:t>*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759120" y="1676520"/>
              <a:ext cx="762120" cy="39348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463840" y="2044800"/>
            <a:ext cx="4444920" cy="1282320"/>
            <a:chOff x="2463840" y="2044800"/>
            <a:chExt cx="4444920" cy="1282320"/>
          </a:xfrm>
        </p:grpSpPr>
        <p:sp>
          <p:nvSpPr>
            <p:cNvPr id="172" name=""/>
            <p:cNvSpPr/>
            <p:nvPr/>
          </p:nvSpPr>
          <p:spPr>
            <a:xfrm>
              <a:off x="2502000" y="20829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63840" y="28065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9600" y="2044800"/>
              <a:ext cx="749160" cy="43164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438280" y="2438280"/>
            <a:ext cx="1346400" cy="876240"/>
            <a:chOff x="2438280" y="2438280"/>
            <a:chExt cx="1346400" cy="876240"/>
          </a:xfrm>
        </p:grpSpPr>
        <p:sp>
          <p:nvSpPr>
            <p:cNvPr id="176" name=""/>
            <p:cNvSpPr/>
            <p:nvPr/>
          </p:nvSpPr>
          <p:spPr>
            <a:xfrm>
              <a:off x="2451240" y="24764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38280" y="27939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44720" y="2438280"/>
              <a:ext cx="939960" cy="39384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527200" y="939960"/>
            <a:ext cx="1143000" cy="2781000"/>
            <a:chOff x="2527200" y="939960"/>
            <a:chExt cx="1143000" cy="2781000"/>
          </a:xfrm>
        </p:grpSpPr>
        <p:sp>
          <p:nvSpPr>
            <p:cNvPr id="180" name=""/>
            <p:cNvSpPr/>
            <p:nvPr/>
          </p:nvSpPr>
          <p:spPr>
            <a:xfrm>
              <a:off x="2527200" y="97776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52760" y="320040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33640" y="939960"/>
              <a:ext cx="736560" cy="40608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413080" y="1320840"/>
            <a:ext cx="6197400" cy="2006280"/>
            <a:chOff x="2413080" y="1320840"/>
            <a:chExt cx="6197400" cy="2006280"/>
          </a:xfrm>
        </p:grpSpPr>
        <p:sp>
          <p:nvSpPr>
            <p:cNvPr id="184" name=""/>
            <p:cNvSpPr/>
            <p:nvPr/>
          </p:nvSpPr>
          <p:spPr>
            <a:xfrm>
              <a:off x="2451240" y="133344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13080" y="280656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34240" y="1320840"/>
              <a:ext cx="876240" cy="39384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8000" y="3743280"/>
            <a:ext cx="8921880" cy="67284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omic Sans MS"/>
              </a:rPr>
              <a:t>Mary lives at Bigby. She has a dentist appointment at Scawby at 1110. What is the latest bus she can catch to ensure that she is on tim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5210280"/>
            <a:ext cx="8686800" cy="9622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omic Sans MS"/>
              </a:rPr>
              <a:t>Robert lives at Alton. He catches the first bus of the day to visit a friend in Atcliffe.  He then travels on to Scawby, arriving there at 1414. What time did he leave Atcliff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43080" y="88920"/>
            <a:ext cx="8286480" cy="3465360"/>
            <a:chOff x="343080" y="88920"/>
            <a:chExt cx="8286480" cy="3465360"/>
          </a:xfrm>
        </p:grpSpPr>
        <p:grpSp>
          <p:nvGrpSpPr>
            <p:cNvPr id="190" name=""/>
            <p:cNvGrpSpPr/>
            <p:nvPr/>
          </p:nvGrpSpPr>
          <p:grpSpPr>
            <a:xfrm>
              <a:off x="380880" y="304920"/>
              <a:ext cx="8229600" cy="3249360"/>
              <a:chOff x="380880" y="304920"/>
              <a:chExt cx="8229600" cy="3249360"/>
            </a:xfrm>
          </p:grpSpPr>
          <p:sp>
            <p:nvSpPr>
              <p:cNvPr id="191" name=""/>
              <p:cNvSpPr/>
              <p:nvPr/>
            </p:nvSpPr>
            <p:spPr>
              <a:xfrm>
                <a:off x="1905120" y="304920"/>
                <a:ext cx="4952880" cy="52056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Using Timetabl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72400" y="318924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3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72400" y="282420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3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72400" y="2457360"/>
                <a:ext cx="83808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72400" y="2089080"/>
                <a:ext cx="83808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72400" y="172260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772400" y="1357200"/>
                <a:ext cx="83808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772400" y="99072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934320" y="318924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934320" y="282420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4320" y="2457360"/>
                <a:ext cx="83808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934320" y="2089080"/>
                <a:ext cx="83808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934320" y="172260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934320" y="1357200"/>
                <a:ext cx="83808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99072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72200" y="3189240"/>
                <a:ext cx="76212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172200" y="2824200"/>
                <a:ext cx="76212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72200" y="2457360"/>
                <a:ext cx="76212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72200" y="2089080"/>
                <a:ext cx="76212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172200" y="1722600"/>
                <a:ext cx="76212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172200" y="1357200"/>
                <a:ext cx="76212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172200" y="990720"/>
                <a:ext cx="76212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34120" y="318924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334120" y="282420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334120" y="2457360"/>
                <a:ext cx="838080" cy="36684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Unti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34120" y="2089080"/>
                <a:ext cx="838080" cy="36828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Ho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34120" y="172260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Ev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334120" y="1357200"/>
                <a:ext cx="838080" cy="36540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A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34120" y="99072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72000" y="3189240"/>
                <a:ext cx="76212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572000" y="2824200"/>
                <a:ext cx="76212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72000" y="2457360"/>
                <a:ext cx="76212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72000" y="2089080"/>
                <a:ext cx="76212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2000" y="1722600"/>
                <a:ext cx="76212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572000" y="1357200"/>
                <a:ext cx="76212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572000" y="990720"/>
                <a:ext cx="76212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33920" y="318924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33920" y="282420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33920" y="2457360"/>
                <a:ext cx="83808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33920" y="2089080"/>
                <a:ext cx="83808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733920" y="172260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733920" y="1357200"/>
                <a:ext cx="83808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33920" y="99072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895480" y="3189240"/>
                <a:ext cx="83844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895480" y="2824200"/>
                <a:ext cx="83844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95480" y="2457360"/>
                <a:ext cx="83844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895480" y="2089080"/>
                <a:ext cx="83844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95480" y="1722600"/>
                <a:ext cx="83844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95480" y="1357200"/>
                <a:ext cx="83844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95480" y="990720"/>
                <a:ext cx="83844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80880" y="3189240"/>
                <a:ext cx="2514600" cy="36504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Scawby Bus S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80880" y="2824200"/>
                <a:ext cx="2514600" cy="36504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Milf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0880" y="2457360"/>
                <a:ext cx="2514600" cy="36684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Atcliff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0880" y="2089080"/>
                <a:ext cx="2514600" cy="36828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Worsl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0880" y="1722600"/>
                <a:ext cx="2514600" cy="36648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Catb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880" y="1357200"/>
                <a:ext cx="2514600" cy="36540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Bigb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80880" y="990720"/>
                <a:ext cx="2514600" cy="36648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Comic Sans MS"/>
                  </a:rPr>
                  <a:t>Alton Bus S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0880" y="990720"/>
                <a:ext cx="82296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0880" y="135720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80880" y="172260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0880" y="208908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0880" y="245736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0880" y="282420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80880" y="318924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80880" y="3554280"/>
                <a:ext cx="82296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80880" y="990720"/>
                <a:ext cx="0" cy="2563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610480" y="990720"/>
                <a:ext cx="0" cy="2563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9548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73392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7200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33412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7220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3432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7240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7194600" y="101520"/>
              <a:ext cx="143496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343080" y="88920"/>
              <a:ext cx="143496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/>
          <p:cNvSpPr/>
          <p:nvPr/>
        </p:nvSpPr>
        <p:spPr>
          <a:xfrm>
            <a:off x="3733920" y="4591080"/>
            <a:ext cx="1181160" cy="398880"/>
          </a:xfrm>
          <a:prstGeom prst="rect">
            <a:avLst/>
          </a:prstGeom>
          <a:gradFill rotWithShape="0">
            <a:gsLst>
              <a:gs pos="0">
                <a:srgbClr val="8e8e71"/>
              </a:gs>
              <a:gs pos="50000">
                <a:srgbClr val="ffffcc"/>
              </a:gs>
              <a:gs pos="100000">
                <a:srgbClr val="8e8e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0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6257880"/>
            <a:ext cx="1181160" cy="398880"/>
          </a:xfrm>
          <a:prstGeom prst="rect">
            <a:avLst/>
          </a:prstGeom>
          <a:gradFill rotWithShape="0">
            <a:gsLst>
              <a:gs pos="0">
                <a:srgbClr val="8e8e71"/>
              </a:gs>
              <a:gs pos="50000">
                <a:srgbClr val="ffffcc"/>
              </a:gs>
              <a:gs pos="100000">
                <a:srgbClr val="8e8e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1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504720" y="109440"/>
            <a:ext cx="8229600" cy="5078520"/>
            <a:chOff x="504720" y="109440"/>
            <a:chExt cx="8229600" cy="5078520"/>
          </a:xfrm>
        </p:grpSpPr>
        <p:sp>
          <p:nvSpPr>
            <p:cNvPr id="270" name=""/>
            <p:cNvSpPr/>
            <p:nvPr/>
          </p:nvSpPr>
          <p:spPr>
            <a:xfrm>
              <a:off x="504720" y="105732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omic Sans MS"/>
                </a:rPr>
                <a:t>Set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4720" y="143352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or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4720" y="1809720"/>
              <a:ext cx="1447920" cy="64260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Ribbleh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4720" y="218592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4720" y="256212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Garsd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4720" y="293832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Kirkby.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4720" y="3314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ppleb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4720" y="3691080"/>
              <a:ext cx="1447920" cy="642600"/>
            </a:xfrm>
            <a:prstGeom prst="rect">
              <a:avLst/>
            </a:prstGeom>
            <a:gradFill rotWithShape="0">
              <a:gsLst>
                <a:gs pos="0">
                  <a:srgbClr val="be91bb"/>
                </a:gs>
                <a:gs pos="50000">
                  <a:srgbClr val="fcc0f8"/>
                </a:gs>
                <a:gs pos="100000">
                  <a:srgbClr val="be91b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La</a:t>
              </a: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gwathb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4720" y="40672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Lazonby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&amp; 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4720" y="44434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Armthw’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4720" y="48196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omic Sans MS"/>
                </a:rPr>
                <a:t>Carlis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1952640" y="1057320"/>
              <a:ext cx="847440" cy="4130640"/>
              <a:chOff x="1952640" y="1057320"/>
              <a:chExt cx="847440" cy="4130640"/>
            </a:xfrm>
          </p:grpSpPr>
          <p:sp>
            <p:nvSpPr>
              <p:cNvPr id="282" name=""/>
              <p:cNvSpPr/>
              <p:nvPr/>
            </p:nvSpPr>
            <p:spPr>
              <a:xfrm>
                <a:off x="1952640" y="1057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52640" y="14335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5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52640" y="18097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52640" y="21859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2640" y="25621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2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52640" y="2938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3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52640" y="33148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52640" y="36910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52640" y="40672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52640" y="44434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52640" y="48196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3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2800440" y="1057320"/>
              <a:ext cx="847440" cy="4130640"/>
              <a:chOff x="2800440" y="1057320"/>
              <a:chExt cx="847440" cy="4130640"/>
            </a:xfrm>
          </p:grpSpPr>
          <p:sp>
            <p:nvSpPr>
              <p:cNvPr id="294" name=""/>
              <p:cNvSpPr/>
              <p:nvPr/>
            </p:nvSpPr>
            <p:spPr>
              <a:xfrm>
                <a:off x="2800440" y="1057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4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00440" y="14335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800440" y="18097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00440" y="21859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00440" y="25621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00440" y="2938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00440" y="33148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3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00440" y="36910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800440" y="40672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00440" y="44434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00440" y="48196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2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648240" y="1057320"/>
              <a:ext cx="847440" cy="4130640"/>
              <a:chOff x="3648240" y="1057320"/>
              <a:chExt cx="847440" cy="4130640"/>
            </a:xfrm>
          </p:grpSpPr>
          <p:sp>
            <p:nvSpPr>
              <p:cNvPr id="306" name=""/>
              <p:cNvSpPr/>
              <p:nvPr/>
            </p:nvSpPr>
            <p:spPr>
              <a:xfrm>
                <a:off x="3648240" y="1057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4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48240" y="14335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5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648240" y="18097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2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648240" y="21859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2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48240" y="25621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21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648240" y="2938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2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48240" y="33148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24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48240" y="36910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25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648240" y="40672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3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648240" y="44434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3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48240" y="48196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32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4495680" y="1057320"/>
              <a:ext cx="847440" cy="4130640"/>
              <a:chOff x="4495680" y="1057320"/>
              <a:chExt cx="847440" cy="4130640"/>
            </a:xfrm>
          </p:grpSpPr>
          <p:sp>
            <p:nvSpPr>
              <p:cNvPr id="318" name=""/>
              <p:cNvSpPr/>
              <p:nvPr/>
            </p:nvSpPr>
            <p:spPr>
              <a:xfrm>
                <a:off x="4495680" y="1057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3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14335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35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95680" y="18097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40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95680" y="21859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4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95680" y="25621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4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2938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4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95680" y="33148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44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495680" y="36910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45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95680" y="40672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5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95680" y="44434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5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95680" y="48196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5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343480" y="1057320"/>
              <a:ext cx="847440" cy="4130640"/>
              <a:chOff x="5343480" y="1057320"/>
              <a:chExt cx="847440" cy="4130640"/>
            </a:xfrm>
          </p:grpSpPr>
          <p:sp>
            <p:nvSpPr>
              <p:cNvPr id="330" name=""/>
              <p:cNvSpPr/>
              <p:nvPr/>
            </p:nvSpPr>
            <p:spPr>
              <a:xfrm>
                <a:off x="5343480" y="1057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54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343480" y="14335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5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343480" y="18097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6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343480" y="21859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6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43480" y="25621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6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43480" y="2938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62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43480" y="33148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64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43480" y="36910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65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43480" y="40672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43480" y="44434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43480" y="48196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2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6191280" y="1057320"/>
              <a:ext cx="847440" cy="4130640"/>
              <a:chOff x="6191280" y="1057320"/>
              <a:chExt cx="847440" cy="4130640"/>
            </a:xfrm>
          </p:grpSpPr>
          <p:sp>
            <p:nvSpPr>
              <p:cNvPr id="342" name=""/>
              <p:cNvSpPr/>
              <p:nvPr/>
            </p:nvSpPr>
            <p:spPr>
              <a:xfrm>
                <a:off x="6191280" y="1057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191280" y="14335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91280" y="18097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191280" y="21859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4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91280" y="25621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191280" y="2938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5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91280" y="33148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8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91280" y="36910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82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191280" y="40672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83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191280" y="44434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83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191280" y="48196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85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039080" y="1057320"/>
              <a:ext cx="847440" cy="4130640"/>
              <a:chOff x="7039080" y="1057320"/>
              <a:chExt cx="847440" cy="4130640"/>
            </a:xfrm>
          </p:grpSpPr>
          <p:sp>
            <p:nvSpPr>
              <p:cNvPr id="354" name=""/>
              <p:cNvSpPr/>
              <p:nvPr/>
            </p:nvSpPr>
            <p:spPr>
              <a:xfrm>
                <a:off x="7039080" y="1057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8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039080" y="14335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9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39080" y="18097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9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39080" y="21859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9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039080" y="25621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92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039080" y="2938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93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039080" y="33148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95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039080" y="36910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0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39080" y="40672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39080" y="44434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1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039080" y="48196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3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7886880" y="1057320"/>
              <a:ext cx="847440" cy="4130640"/>
              <a:chOff x="7886880" y="1057320"/>
              <a:chExt cx="847440" cy="4130640"/>
            </a:xfrm>
          </p:grpSpPr>
          <p:sp>
            <p:nvSpPr>
              <p:cNvPr id="366" name=""/>
              <p:cNvSpPr/>
              <p:nvPr/>
            </p:nvSpPr>
            <p:spPr>
              <a:xfrm>
                <a:off x="7886880" y="1057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2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886880" y="14335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3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886880" y="18097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4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886880" y="21859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886880" y="25621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886880" y="2938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886880" y="33148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886880" y="36910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886880" y="40672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886880" y="44434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86880" y="48196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6654960" y="109440"/>
              <a:ext cx="1822320" cy="7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1041480" y="109440"/>
              <a:ext cx="1822320" cy="7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301920" y="304920"/>
              <a:ext cx="288936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Settle to Carlis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0" y="5661000"/>
            <a:ext cx="1081080" cy="1027440"/>
            <a:chOff x="0" y="5661000"/>
            <a:chExt cx="1081080" cy="1027440"/>
          </a:xfrm>
        </p:grpSpPr>
        <p:sp>
          <p:nvSpPr>
            <p:cNvPr id="388" name=""/>
            <p:cNvSpPr/>
            <p:nvPr/>
          </p:nvSpPr>
          <p:spPr>
            <a:xfrm>
              <a:off x="0" y="566100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4600" y="638136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9680" y="592092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3200" y="638136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2800" y="620892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6320" y="620892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68360" y="2421000"/>
            <a:ext cx="496764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84360" y="2565360"/>
            <a:ext cx="4535640" cy="1441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987640" y="270828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page 95 Exercise 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56000" y="4437000"/>
            <a:ext cx="453528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87640" y="465300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s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page 95 Exercise 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7964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0" y="5832360"/>
            <a:ext cx="1081080" cy="1027440"/>
            <a:chOff x="0" y="5832360"/>
            <a:chExt cx="1081080" cy="1027440"/>
          </a:xfrm>
        </p:grpSpPr>
        <p:sp>
          <p:nvSpPr>
            <p:cNvPr id="406" name=""/>
            <p:cNvSpPr/>
            <p:nvPr/>
          </p:nvSpPr>
          <p:spPr>
            <a:xfrm>
              <a:off x="0" y="583236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4600" y="6552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9680" y="609228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3200" y="6552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2800" y="638028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6320" y="638028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908000" y="2421000"/>
            <a:ext cx="5040360" cy="3600360"/>
          </a:xfrm>
          <a:prstGeom prst="rect">
            <a:avLst/>
          </a:prstGeom>
          <a:solidFill>
            <a:srgbClr val="ffffff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124000" y="2637000"/>
          <a:ext cx="4619880" cy="3195360"/>
        </p:xfrm>
        <a:graphic>
          <a:graphicData uri="http://schemas.openxmlformats.org/drawingml/2006/table">
            <a:tbl>
              <a:tblPr/>
              <a:tblGrid>
                <a:gridCol w="1224000"/>
                <a:gridCol w="843120"/>
                <a:gridCol w="952560"/>
                <a:gridCol w="749160"/>
                <a:gridCol w="85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l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e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250920" y="1916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the missing s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12000" y="45813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12000" y="52293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7964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0" y="5832360"/>
            <a:ext cx="1081080" cy="1027440"/>
            <a:chOff x="0" y="5832360"/>
            <a:chExt cx="1081080" cy="1027440"/>
          </a:xfrm>
        </p:grpSpPr>
        <p:sp>
          <p:nvSpPr>
            <p:cNvPr id="424" name=""/>
            <p:cNvSpPr/>
            <p:nvPr/>
          </p:nvSpPr>
          <p:spPr>
            <a:xfrm>
              <a:off x="0" y="583236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4600" y="6552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9680" y="609228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3200" y="6552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2800" y="638028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6320" y="638028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0920" y="2421000"/>
            <a:ext cx="7740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8360" y="2565360"/>
            <a:ext cx="720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r  travels at a speed of 50 miles per hour for 3 hou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distance travelled by the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9280" y="1916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B  Standard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4000" y="4365720"/>
            <a:ext cx="7740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8360" y="4508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yclist travels 90 kilometres, travelling at 18 kilometres per h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does the journey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48360" y="314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0400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5280" y="3789360"/>
            <a:ext cx="7632720" cy="431640"/>
          </a:xfrm>
          <a:prstGeom prst="rect">
            <a:avLst/>
          </a:prstGeom>
          <a:solidFill>
            <a:srgbClr val="ff00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386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miles in 1 hour  100 miles in 2 hours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50 miles in 3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5280" y="5661000"/>
            <a:ext cx="7632720" cy="432000"/>
          </a:xfrm>
          <a:prstGeom prst="rect">
            <a:avLst/>
          </a:prstGeom>
          <a:solidFill>
            <a:srgbClr val="ff00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71640" y="57340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x 5 =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508720" y="566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5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0920" y="2349360"/>
            <a:ext cx="165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0091"/>
                </a:solidFill>
                <a:latin typeface="Arial"/>
              </a:rPr>
              <a:t>What do you se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What_can_you_see_6.gif"/>
          <p:cNvPicPr/>
          <p:nvPr/>
        </p:nvPicPr>
        <p:blipFill>
          <a:blip r:embed="rId2"/>
          <a:stretch/>
        </p:blipFill>
        <p:spPr>
          <a:xfrm>
            <a:off x="1979640" y="1844640"/>
            <a:ext cx="5943600" cy="445788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451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t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4400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15:20Z</dcterms:created>
  <dc:creator>teacher</dc:creator>
  <dc:description/>
  <dc:language>en-US</dc:language>
  <cp:lastModifiedBy>Caroline</cp:lastModifiedBy>
  <dcterms:modified xsi:type="dcterms:W3CDTF">2009-01-07T21:17:59Z</dcterms:modified>
  <cp:revision>15</cp:revision>
  <dc:subject/>
  <dc:title>Slide 1</dc:title>
</cp:coreProperties>
</file>